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957-9529-4E47-B315-A301C904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85D-EAC3-4063-A3B5-157A94D1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C6A-9D4C-4E76-B0EC-87F7335E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58F-3FD0-483F-B2EC-C2A46FBA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85F-B749-4903-909F-CE125346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7AE-6FCB-4668-A30A-934FD12F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89A-9C19-4434-82E0-A5D3A15F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8C4-C560-40D5-B5E2-464C6AFD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E32-2C97-48EC-A3FC-B4EC2E5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985-24D7-41AA-8CAD-090B04E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01E-6AFD-4D65-B4DB-0D750EA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B74-2ECC-4870-A277-924BFD2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D320-D3EA-4881-B7FA-4FF31DA56B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4E Median smoothing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edian smoothing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 alternative to moving-average smoothing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faster technique that requires no calcul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Ex 4E, Q.1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4E, Q.2, 4, 5, 6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85840"/>
          <a:ext cx="8472600" cy="6357960"/>
        </p:xfrm>
        <a:graphic>
          <a:graphicData uri="http://schemas.openxmlformats.org/drawingml/2006/table">
            <a:tbl>
              <a:tblPr/>
              <a:tblGrid>
                <a:gridCol w="2824200"/>
                <a:gridCol w="2824200"/>
                <a:gridCol w="28242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an smoothed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296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22:30:42Z</dcterms:created>
  <dc:creator>08843474</dc:creator>
  <dc:description/>
  <dc:language>en-US</dc:language>
  <cp:lastModifiedBy>08843474</cp:lastModifiedBy>
  <dcterms:modified xsi:type="dcterms:W3CDTF">2011-03-31T00:10:46Z</dcterms:modified>
  <cp:revision>2</cp:revision>
  <dc:subject/>
  <dc:title>Time series</dc:title>
</cp:coreProperties>
</file>